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76141-D0F7-4DF5-AC4A-5DC6AEF0C7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CE433-DC41-4C81-B293-DEDAD5884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A8045-D5D4-4CCC-BEC0-4F9E7266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2101-E64E-4E94-8359-F31A8A3B1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1A148-203B-4A73-8C36-A4688FA1F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AAE52-60F5-4890-A0EC-14C9AF3D3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28D62-D943-451B-8552-B21BDA7E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E474E-5A95-4A58-9622-3552E3770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9F73B-8D68-4A61-9D1B-763E7A374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F5618-1F42-4305-8E24-0F6AADAC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5C30D-A688-4104-A989-18B5BAE83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832F2-8DEB-40C8-9637-236291A62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A1971-3AA7-430E-B507-F77D0FE4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4772E-2656-47E5-A80F-B40BE0FF2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F717C-B352-4A99-AE1C-D6DCFE53F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40048-338F-40FB-BEAC-96E176897F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A08C3-0DE3-490B-BD8F-7F3E4CD626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AEA63-CEDF-4EEE-A443-B6F0AF93F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9FC-8334-46AB-838A-ED1AEA49E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30BDC-8025-4641-BD78-DC560D171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26417-47E2-4D56-853C-422048E17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BF2E-BB43-4376-876C-FE4B94642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20D6-C5CE-4573-B03D-709E3F7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ABBF-3926-4A55-A1BC-1B451596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9CDF3-BFD0-48BE-BC73-8FA4D547AF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굴림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25AB0-2B5F-4137-A6DA-452520F0AE7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ffffb7"/>
                </a:solidFill>
                <a:latin typeface="굴림"/>
              </a:rPr>
              <a:t>1</a:t>
            </a:r>
            <a:r>
              <a:rPr b="1" lang="zh-CN" sz="4800" spc="-1" strike="noStrike">
                <a:solidFill>
                  <a:srgbClr val="ffffb7"/>
                </a:solidFill>
                <a:latin typeface="굴림"/>
              </a:rPr>
              <a:t>장 </a:t>
            </a:r>
            <a:br>
              <a:rPr sz="4800"/>
            </a:b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한국교육의 방향과 전략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구대학교 초등특수교육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최성규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02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사정과 교육과정 운영 전략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80074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Zone of Proximal Development: ZPD)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Vygotsky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Piaget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이론의 차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역동적 접근방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상호작용의 중요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비계설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눈높이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연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습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효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늘날 미국의 교육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훈련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검사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기존의 지능검사에 대한 재해석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장애아동의 가능성 탐색과 적용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일본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국민회의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을 바꾸는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1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 제안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풍부한 인간성 육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의 중요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창의적 재능 개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개인중심의 가치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새로운 학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 문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문부과학성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21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세기 교육신생플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- 7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대 중점 전략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레인보우 플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영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88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교육개혁법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9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이후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노동당의 교육개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보수당과 함께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대 정당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파시즘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국유화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사회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979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대처 정권에 패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년 재집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교육기회의 확대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잠재능력의 개발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탁월한 학업성취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세계 교육개혁의 시사점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육개혁법 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정을 통한 지속적이고 체계적인 지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보장과 상향 평등화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간의 학력격차 최소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의 권리확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교의 자율권과 책무성 요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취약 학교의 지원과 문책 공존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주요 문제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제적 경쟁력 강화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자기주도적 수업 기회 확대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 위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공교육의 동기부여 노력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교육 문제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권을 위한 다면적 노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육개혁의 후유증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국정지표와 교육지표의 분리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방향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업성취 보장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평생교육자 인식 고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교육의 내실화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자율과 책무성 공존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공동체적 접근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원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생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학부모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지역사회의 동참 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민도 인식 수준 함양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한국교육의 기본 원칙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평등성과 수월성 보장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율성과 책무성 제고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민주성과 전문성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자주성의 존중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의 논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소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와 학생의 발달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적극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운영의 효율성 제고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지출성의 생산성 보장</a:t>
            </a: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원 및 연구인력에 대한 우선적 투자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선택과 집중을 통한 경쟁력 강화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규제의 질적 적합성 함양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교육행정기관의 역할과 기능의 재정립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500" spc="-1" strike="noStrike">
                <a:solidFill>
                  <a:srgbClr val="ffffff"/>
                </a:solidFill>
                <a:latin typeface="굴림"/>
              </a:rPr>
              <a:t>장기계획에 의한 일관성 있는 정책 추진 </a:t>
            </a: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나오는 글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국가 경쟁력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의 역할과 위상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세계화에 따른 한국교육의 방향과 원칙 제고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교원의 사회경제적 지위 향상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가정교육과 예절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99ff6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굴림"/>
              </a:rPr>
              <a:t>경제교육 강화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질문하세요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608360" cy="41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생각 보따리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</a:t>
            </a: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(Zone of Proximal Development: ZPD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근접발달대와 인간의 일생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증류수와 불순물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가정교육과 학교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ffff"/>
                </a:solidFill>
                <a:latin typeface="굴림"/>
              </a:rPr>
              <a:t>교사의 역할에 대하여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굴림"/>
              </a:rPr>
              <a:t>21</a:t>
            </a:r>
            <a:r>
              <a:rPr b="1" lang="zh-CN" sz="4000" spc="-1" strike="noStrike">
                <a:solidFill>
                  <a:srgbClr val="ffffb7"/>
                </a:solidFill>
                <a:latin typeface="굴림"/>
              </a:rPr>
              <a:t>세기 사회의 변화와 교육적 요구</a:t>
            </a:r>
            <a:endParaRPr b="1" lang="en-US" sz="40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지식기반 사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평생학습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학업성취에 대한 태도와 감성의 변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세계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인적자원 개발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국가경쟁력 재고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미국의 아동낙오방지법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시장 개방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고령화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복지정책의 변화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굴림"/>
              </a:rPr>
              <a:t>성숙된 민주사회</a:t>
            </a: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: postmodernism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.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교육개혁의 세계적 동향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아동낙오방지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196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초•중등교육법의 최근 재정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1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00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사의 표준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의 학업성취 향상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미국의 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2004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년 장애아교육진흥법 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DEA : IDEIA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서류업무의 간소화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대부분의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단기목표 삭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포괄적인 다년 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IEP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계획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질 높은 교사와 복수자격 취득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습장애 선별 및 교육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선별 전에 교육 가능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사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assessment)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의 강조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br>
              <a:rPr sz="4400"/>
            </a:b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o Child Left Behind: 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1. 1965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년 제정된 초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중등교육법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Elementary and Secondary Education Act: ESEA)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의 최근 개정판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2001, 2002)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제정 목적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표준 척도의 제시와 함께 책무성 있는 계획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효과가 검증된 프로그램의 사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교사의 교직 수행능력을 보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spcBef>
                <a:spcPts val="700"/>
              </a:spcBef>
              <a:buClr>
                <a:srgbClr val="99ff66"/>
              </a:buClr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학교교육에서 아동간의 학력격차 최소화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</a:t>
            </a: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제정 배경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미 헌법에는 교육에 대한 조항이 없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수행능력은 교육과정 운영과 직결됨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경제논리보다 학교교육의 가치를 보장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조직은 발전을 전제한 단체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많은 교육자를 놀라게 했음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AYP (Adequate Yearly Progress):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주와 학교간 경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교사의 능력 향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굴림"/>
                <a:ea typeface="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학생의 성적 행상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굴림"/>
                <a:ea typeface=""/>
              </a:rPr>
              <a:t>외국 학생과의 경쟁에서 뒤지고 있음 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: AYP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기술적 보조 수용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발전 계획 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생 보충수업 제공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정 계획안 제출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-609480">
              <a:lnSpc>
                <a:spcPct val="110000"/>
              </a:lnSpc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5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 경과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학교 관리 구조 수정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관선 이사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교원 및 직원 이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* 2014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년까지 읽기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수학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과학 등의 모든 교과 적용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609480" indent="0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b7"/>
                </a:solidFill>
                <a:latin typeface="굴림"/>
              </a:rPr>
              <a:t>아동낙오방지법</a:t>
            </a:r>
            <a:r>
              <a:rPr b="1" lang="en-US" sz="4400" spc="-1" strike="noStrike">
                <a:solidFill>
                  <a:srgbClr val="ffffb7"/>
                </a:solidFill>
                <a:latin typeface="굴림"/>
              </a:rPr>
              <a:t>(NCLB)</a:t>
            </a:r>
            <a:endParaRPr b="1" lang="en-US" sz="4400" spc="-1" strike="noStrike">
              <a:solidFill>
                <a:srgbClr val="ffffb7"/>
              </a:solidFill>
              <a:latin typeface="굴림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7720" y="1905120"/>
            <a:ext cx="8007480" cy="46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굴림"/>
              </a:rPr>
              <a:t>특수교육에 제시하는 시사점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모든 학생을 위한 양질의 교육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유능한 교사 양성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예외가 없음</a:t>
            </a: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중복장애의 탄력적 적용 준비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굴림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굴림"/>
              </a:rPr>
              <a:t>인본주의와 기능주의의 마찰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1T00:22:45Z</dcterms:created>
  <dc:creator>XPuser</dc:creator>
  <dc:description/>
  <dc:language>en-US</dc:language>
  <cp:lastModifiedBy>XPuser</cp:lastModifiedBy>
  <dcterms:modified xsi:type="dcterms:W3CDTF">2008-09-17T02:17:35Z</dcterms:modified>
  <cp:revision>9</cp:revision>
  <dc:subject/>
  <dc:title>제 1장  21세기 한국교육의 방향과 전략</dc:title>
</cp:coreProperties>
</file>